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3F73CA-6546-42CD-BEB2-4C4F0B790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98560" y="539640"/>
            <a:ext cx="450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Times New Roman"/>
                <a:ea typeface="DejaVu Sans"/>
              </a:rPr>
              <a:t>Linux Foundation CE Workgroup / Embedded Linux Conferenc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8240" y="1890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DejaVu Sans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153972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47320" y="15573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851360" y="5770440"/>
            <a:ext cx="413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578808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400" y="1125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senter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1253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omas Brown / Brown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1920" y="600408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48200" y="1987560"/>
            <a:ext cx="31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97172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40" y="6006960"/>
            <a:ext cx="25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  <a:ea typeface="DejaVu Sans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2-01-12T23:48:13Z</dcterms:modified>
  <cp:revision>2</cp:revision>
  <dc:subject/>
  <dc:title>スライド 1</dc:title>
</cp:coreProperties>
</file>